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CB8-3BAF-442D-9FF6-77FA7F93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D4F-83DE-40CC-BC50-76CEC0CC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172-C943-4FA2-A521-E7846A56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62B-849D-4337-ADE2-8D0FBF92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27E-6945-46D0-B01F-918BC2E7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DF0-020F-4DE3-8F1D-309BD8B8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604-6D63-4A2F-82B9-52EA757F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432-87A3-4DA9-9654-04EDFB33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4C1-64E9-4E5E-B68E-DB02B8A1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B76-B92E-4980-88E2-20190DE0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5EA-1426-4D2D-93A4-2CA3467F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3FB-37AD-4873-B3D2-13D5B3E2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32AB-7A78-491A-9213-0AFE59616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50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ldlady1c" descr=""/>
          <p:cNvPicPr/>
          <p:nvPr/>
        </p:nvPicPr>
        <p:blipFill>
          <a:blip r:embed="rId1"/>
          <a:srcRect l="0" t="0" r="32697" b="12501"/>
          <a:stretch/>
        </p:blipFill>
        <p:spPr>
          <a:xfrm>
            <a:off x="1542960" y="457200"/>
            <a:ext cx="3943440" cy="7162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0640" y="7892640"/>
            <a:ext cx="43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Know An Old 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62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ldlady1c" descr=""/>
          <p:cNvPicPr/>
          <p:nvPr/>
        </p:nvPicPr>
        <p:blipFill>
          <a:blip r:embed="rId1"/>
          <a:srcRect l="0" t="0" r="32697" b="12501"/>
          <a:stretch/>
        </p:blipFill>
        <p:spPr>
          <a:xfrm>
            <a:off x="2666880" y="228600"/>
            <a:ext cx="1676520" cy="251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65280" y="2817720"/>
            <a:ext cx="416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know an old l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 swallowed a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lcro he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4253040"/>
            <a:ext cx="2286000" cy="191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467676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don’t know why s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wallowe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ild’s na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7116840"/>
            <a:ext cx="2209680" cy="187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82920" y="7862040"/>
            <a:ext cx="26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 me, Oh m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5791320" cy="4948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13280" y="5820120"/>
            <a:ext cx="423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N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23:58:39Z</dcterms:created>
  <dc:creator>ppp</dc:creator>
  <dc:description/>
  <dc:language>en-US</dc:language>
  <cp:lastModifiedBy>ppp</cp:lastModifiedBy>
  <dcterms:modified xsi:type="dcterms:W3CDTF">2004-11-06T00:03:25Z</dcterms:modified>
  <cp:revision>1</cp:revision>
  <dc:subject/>
  <dc:title>Slide 1</dc:title>
</cp:coreProperties>
</file>